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C35-2215-4B00-9A5F-533209DE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B23-D4FD-42AF-B067-B082ADA9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22F-4772-4A41-B69C-3D16633D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1B8-7053-4CB3-BE3B-B78FB727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A44-FE7D-4B2D-BBE4-B3F897B8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F07-1526-4CD4-90D4-27FDA782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7DE-0A62-4943-B9F9-4193CC05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E0C-C668-4A1C-8A37-F9763DF3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C13-45B1-4A05-B3E5-C19E5650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243-D7B9-4619-97DC-E13D3E6D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955-DE36-42C0-A083-CC3B0F12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9C43-D081-48B5-9A99-E814EE54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96AA-F5BB-47EA-B978-D7FDA067C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in%20título-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in%20título-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n%20título-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in%20título-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in%20título-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n%20título-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in%20título-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in%20título-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in%20título-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in%20título-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in%20título-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in%20título-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in%20título-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in%20título-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in%20título-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in%20título-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in%20título-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in%20título-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7:21:54Z</dcterms:created>
  <dc:creator>Grupo Editorial</dc:creator>
  <dc:description/>
  <dc:language>en-US</dc:language>
  <cp:lastModifiedBy>Grupo Editorial</cp:lastModifiedBy>
  <dcterms:modified xsi:type="dcterms:W3CDTF">2001-09-21T07:28:54Z</dcterms:modified>
  <cp:revision>1</cp:revision>
  <dc:subject/>
  <dc:title>Sin título de diapositiva</dc:title>
</cp:coreProperties>
</file>